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arrow.wav" ContentType="audio/x-wav"/>
  <Override PartName="/ppt/media/drumroll.wav" ContentType="audio/x-wav"/>
  <Override PartName="/ppt/media/carbrake.wav" ContentType="audio/x-wav"/>
  <Override PartName="/ppt/media/image3.png" ContentType="image/png"/>
  <Override PartName="/ppt/media/chimes.wav" ContentType="audio/x-wav"/>
  <Override PartName="/ppt/media/image4.png" ContentType="image/png"/>
  <Override PartName="/ppt/media/cashreg.wav" ContentType="audio/x-wav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714-0B94-40C3-AEB1-E4A64BA4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C16-E7AB-4C39-922E-D2CA9001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2CB-488D-4056-9C47-D8AFF293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D2E-D31F-487C-89BA-B97DFA92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C2CE-D184-4459-87DF-9700BDD8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5AA-A253-4034-8956-23ADB46F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6A74-871C-4A6D-9119-7DB596F5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C071-C28C-48B6-AEBC-B80E3F3C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E35C-26EE-40F9-8A5B-56FC54F7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C1BE-AD67-49D5-AA9F-28189693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CF59-2D7D-4FBC-8A97-A5704AF0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8D6-4997-4E2C-B426-DC92D92A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6DCC-17CA-4EE2-94D2-7583BC53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3046-E119-4DC9-B855-76F94E28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1C5E-70EF-4B22-B859-D2662059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1C55-CA1A-4430-8C0C-4278AF00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1883-4894-4E43-BFA2-AD539B53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FD8-E679-4747-99E3-D3D9D3A8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FE8-46DE-4FC3-A8D9-7C125B45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A91-76B2-4674-A9B8-234AF985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54F-472E-4A8A-A937-1379B8D0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282-E411-44EC-BB50-BDA17A9E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72F-522B-4483-BD13-62126D3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724-1458-478F-9304-56370859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3B84-F2BD-456C-84AD-3DD4A8E7607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0666-DF04-462B-AC15-A316617430D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295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y Brian Duno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Visualize the critical characteristic of the water molecule that allows it to be such a good solvent, namely its polar nature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Rate of Dissolving, Structure of Water Dissoci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Rectangle 5"/>
          <p:cNvSpPr/>
          <p:nvPr/>
        </p:nvSpPr>
        <p:spPr>
          <a:xfrm rot="214800">
            <a:off x="2462040" y="14811120"/>
            <a:ext cx="2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026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45520" cy="125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is project is designed to supplement Unit 1 Section C of the (Chemistry in the Communit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Physic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Oceanograph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Environment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sh dir="u"/>
    <p:sndAc>
      <p:stSnd>
        <p:snd r:embed="rId2" name="drumroll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70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1:Rate of Dissolv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xcel or other graphing pro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2: Structure of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ydrogen Bonding Effe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exagonal arrangement of molecules in 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3: Dissociation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mb dir="vert"/>
    <p:sndAc>
      <p:stSnd>
        <p:snd r:embed="rId2" name="cashreg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ook Antiqua"/>
              </a:rPr>
              <a:t>I hope you liked my project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2:25:29Z</dcterms:created>
  <dc:creator>rentex </dc:creator>
  <dc:description/>
  <dc:language>en-US</dc:language>
  <cp:lastModifiedBy>howard</cp:lastModifiedBy>
  <dcterms:modified xsi:type="dcterms:W3CDTF">2010-09-29T21:53:46Z</dcterms:modified>
  <cp:revision>14</cp:revision>
  <dc:subject/>
  <dc:title>Water:  The Universal Solvent</dc:title>
</cp:coreProperties>
</file>